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58E-E069-48CB-86FE-B1E1056A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48344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BC6-2CA6-410E-9702-7D61B9AB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1E2-9747-42D4-A966-2E731EE3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256-D8D4-4252-8546-D340059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9E4-96CD-4AB1-9226-4AFCD46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C17-0462-46ED-ACAB-F317F88C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536-EC94-4115-B244-449F6F14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352-7EEB-4353-83D7-8FDACFC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46-4298-42A3-9D4C-9360E8B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B95-28CD-4765-AF8B-F14B556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976-C35F-4548-8CE9-C187B9D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63A-C63D-4896-B7B3-5DE2A8F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7784-0A92-4E15-805A-E51112FC2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1187280" y="260280"/>
            <a:ext cx="6553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 Rounded MT Bold"/>
              </a:rPr>
              <a:t>PROGRAMME DECENTRALISATION/DEVELOPPEMENT COMMUNAL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 Rounded MT Bold"/>
              </a:rPr>
              <a:t>SOUS COMPOSANTE FOYERS  AMELIORES (PDDC/FAFAS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Nouvelle image"/>
          <p:cNvPicPr/>
          <p:nvPr/>
        </p:nvPicPr>
        <p:blipFill>
          <a:blip r:embed="rId2"/>
          <a:stretch/>
        </p:blipFill>
        <p:spPr>
          <a:xfrm>
            <a:off x="324000" y="189000"/>
            <a:ext cx="817560" cy="1149120"/>
          </a:xfrm>
          <a:prstGeom prst="rect">
            <a:avLst/>
          </a:prstGeom>
          <a:ln w="22320">
            <a:solidFill>
              <a:srgbClr val="686b5d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740720" y="189000"/>
            <a:ext cx="1116000" cy="1152360"/>
          </a:xfrm>
          <a:prstGeom prst="rect">
            <a:avLst/>
          </a:prstGeom>
          <a:ln w="22320">
            <a:solidFill>
              <a:srgbClr val="686b5d"/>
            </a:solidFill>
            <a:miter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92929"/>
                </a:solidFill>
                <a:latin typeface="Arial"/>
              </a:rPr>
              <a:t>Marketing campaigns pay off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09680" y="4419360"/>
            <a:ext cx="64008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1111"/>
                </a:solidFill>
                <a:latin typeface="Arial"/>
              </a:rPr>
              <a:t>Experiences from Burkina Fa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1111"/>
                </a:solidFill>
                <a:latin typeface="Arial"/>
              </a:rPr>
              <a:t>Dr Andrea Rei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1111"/>
                </a:solidFill>
                <a:latin typeface="Arial"/>
              </a:rPr>
              <a:t>PDDC/FAFA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47640" y="260280"/>
            <a:ext cx="684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How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2349360"/>
            <a:ext cx="3168360" cy="100836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4653000"/>
            <a:ext cx="3168360" cy="100800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500280"/>
            <a:ext cx="3168360" cy="100836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1. The brand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«</a:t>
            </a: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roumdé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2133720"/>
            <a:ext cx="799308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1st step of the marketing campaign = creating a brand / 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99736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roumdé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= mooré, Burkina Faso‘s most important national langua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the preferred» (woman) = «the preferred » (sto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365720"/>
            <a:ext cx="792000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Distinguishes «good» stoves from «bad»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157720"/>
            <a:ext cx="792000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lso serves as quality lab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92929"/>
                </a:solidFill>
                <a:latin typeface="Arial"/>
              </a:rPr>
              <a:t>2. </a:t>
            </a: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The marketing campaig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2209680"/>
            <a:ext cx="2052720" cy="64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97360"/>
            <a:ext cx="3024360" cy="12952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radio-/TV-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1111"/>
                </a:solidFill>
                <a:latin typeface="Arial"/>
              </a:rPr>
              <a:t>Radi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1111"/>
                </a:solidFill>
                <a:latin typeface="Arial"/>
              </a:rPr>
              <a:t>TV-interviews etc.</a:t>
            </a:r>
            <a:r>
              <a:rPr b="1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5300640"/>
            <a:ext cx="4967280" cy="865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ublicity events in public pl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Fares and exhib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437000"/>
            <a:ext cx="374364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pons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Publicity events </a:t>
            </a:r>
            <a:br>
              <a:rPr sz="3200"/>
            </a:b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(with or without theatre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887640" cy="2927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819600" cy="29386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Fares and exhibitions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041720" cy="3041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078080" cy="3071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ponso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3845160" cy="28987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816360" cy="2890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pos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929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3. The commercialisation chai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2006640"/>
            <a:ext cx="4792680" cy="365436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632320" cy="3673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826920" y="1981080"/>
            <a:ext cx="2665440" cy="863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«roumdé» shops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easily be f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877000"/>
            <a:ext cx="4952880" cy="7207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111111"/>
                </a:solidFill>
                <a:latin typeface="Arial"/>
              </a:rPr>
              <a:t>«</a:t>
            </a:r>
            <a:r>
              <a:rPr b="0" lang="en-GB" sz="1900" spc="-1" strike="noStrike">
                <a:solidFill>
                  <a:srgbClr val="111111"/>
                </a:solidFill>
                <a:latin typeface="Arial"/>
              </a:rPr>
              <a:t>roumdé» producers can easily be identified</a:t>
            </a:r>
            <a:r>
              <a:rPr b="0" lang="de-DE" sz="19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Problems no 1: the producer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276640"/>
            <a:ext cx="799308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At the st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What do we stimulate first – offer or  dem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84640"/>
            <a:ext cx="7993080" cy="718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commercialis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407664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roducers produce only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372280"/>
            <a:ext cx="763272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ales strategies only adapted for mobile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72428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ales practices are difficult to change</a:t>
            </a: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Problems no 2: the PR-agenc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276640"/>
            <a:ext cx="799308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Good campaign conception – bad exec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3429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ime slots paid in TV not resp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29264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Bad execution of publicit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111111"/>
                </a:solidFill>
                <a:latin typeface="Arial"/>
              </a:rPr>
              <a:t>Basics 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276640"/>
            <a:ext cx="3671640" cy="36734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92929"/>
                </a:solidFill>
                <a:latin typeface="Arial"/>
              </a:rPr>
              <a:t>1st Ph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07/05-06/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grated into CIL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Objectif 1st Phase: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istribution of 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15.000 stoves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 the big citi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(Ouagadougou, Bob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ioulass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276640"/>
            <a:ext cx="3600720" cy="36734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92929"/>
                </a:solidFill>
                <a:latin typeface="Arial"/>
              </a:rPr>
              <a:t>2nd Ph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ince 07/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art of PDDC </a:t>
            </a:r>
            <a:br>
              <a:rPr sz="2000"/>
            </a:b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(decentralis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Objectif 2nd Ph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mmercialisation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f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50.000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 cities and in peri-urb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d rural are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276640"/>
            <a:ext cx="403236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We do it ourselve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429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1st campaign (oct. 06 – jan. 07) made by a PR-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221000"/>
            <a:ext cx="7632720" cy="792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2nd and following campaigns by our own mea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With different assistances on the sp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15772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Media use in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5877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Continous Publicity events</a:t>
            </a:r>
            <a:r>
              <a:rPr b="0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uccess 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00000" y="3789360"/>
            <a:ext cx="7488000" cy="1800360"/>
            <a:chOff x="900000" y="3789360"/>
            <a:chExt cx="7488000" cy="1800360"/>
          </a:xfrm>
        </p:grpSpPr>
        <p:sp>
          <p:nvSpPr>
            <p:cNvPr id="131" name=""/>
            <p:cNvSpPr/>
            <p:nvPr/>
          </p:nvSpPr>
          <p:spPr>
            <a:xfrm>
              <a:off x="2555640" y="4437360"/>
              <a:ext cx="1871640" cy="115092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nov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1.29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4653000"/>
              <a:ext cx="1655640" cy="93672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oct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4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9080" y="4149720"/>
              <a:ext cx="1800000" cy="144000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dec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1.8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9080" y="3789360"/>
              <a:ext cx="2158920" cy="179388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jan 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3.3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900000" y="2133720"/>
            <a:ext cx="763272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oday: 45.000 stoves s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924280"/>
            <a:ext cx="7632720" cy="792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Considerable increase of sales numbers with the begin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Of the marketing campa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734080"/>
            <a:ext cx="7632720" cy="7192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fter the end of the 1st campaign stabilisation on 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Of 2000 stoves a month 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uccess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3645000"/>
            <a:ext cx="763272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he subject «improved stoves» is back in the heads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nd no longer an „old hat“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438280"/>
            <a:ext cx="7632720" cy="1079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roumdé» is known all over the coun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makes scaling up eas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11280" y="2276640"/>
            <a:ext cx="4824720" cy="28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merci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barka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Herzlichen D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Basics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2447640" cy="57636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1st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492280"/>
            <a:ext cx="2448000" cy="57636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2nd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141720"/>
            <a:ext cx="2448000" cy="122400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arget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41720"/>
            <a:ext cx="244764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3141720"/>
            <a:ext cx="252108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Professional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institutional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437000"/>
            <a:ext cx="2448000" cy="122400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437000"/>
            <a:ext cx="244764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mobile me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437000"/>
            <a:ext cx="259236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mobile metal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fix mud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 of</a:t>
            </a:r>
            <a:br>
              <a:rPr sz="3200"/>
            </a:b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improved stoves in Burkina Faso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55640" y="2421000"/>
            <a:ext cx="7919280" cy="3745080"/>
            <a:chOff x="755640" y="2421000"/>
            <a:chExt cx="7919280" cy="3745080"/>
          </a:xfrm>
        </p:grpSpPr>
        <p:cxnSp>
          <p:nvCxnSpPr>
            <p:cNvPr id="61" name="_s123917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05760" y="3226680"/>
              <a:ext cx="749520" cy="2133000"/>
            </a:xfrm>
            <a:prstGeom prst="bentConnector3">
              <a:avLst>
                <a:gd name="adj1" fmla="val 152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23915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273840" y="3227040"/>
              <a:ext cx="749520" cy="2132280"/>
            </a:xfrm>
            <a:prstGeom prst="bentConnector3">
              <a:avLst>
                <a:gd name="adj1" fmla="val 152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" name="_s123911"/>
            <p:cNvSpPr/>
            <p:nvPr/>
          </p:nvSpPr>
          <p:spPr>
            <a:xfrm>
              <a:off x="2887200" y="242100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Distribution of improved stov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in Burkina Faso since the 1970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123912"/>
            <p:cNvSpPr/>
            <p:nvPr/>
          </p:nvSpPr>
          <p:spPr>
            <a:xfrm>
              <a:off x="755640" y="466812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Through associations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(often as gif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123914"/>
            <p:cNvSpPr/>
            <p:nvPr/>
          </p:nvSpPr>
          <p:spPr>
            <a:xfrm>
              <a:off x="5019840" y="466812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Through the sta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(forced introduction during 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Revolution 1983-87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‘s advantages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2852640"/>
            <a:ext cx="6840720" cy="1656000"/>
          </a:xfrm>
          <a:prstGeom prst="flowChartAlternateProcess">
            <a:avLst/>
          </a:prstGeom>
          <a:solidFill>
            <a:srgbClr val="809e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1111"/>
                </a:solidFill>
                <a:latin typeface="Arial"/>
              </a:rPr>
              <a:t>The stoves are kn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‘s disadvantag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2276640"/>
            <a:ext cx="6840720" cy="792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«an old hat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3213000"/>
            <a:ext cx="684072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People never needed to decide acquir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– They always got them „somehow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4437000"/>
            <a:ext cx="6840720" cy="1368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People are not used to invest (money)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o get the st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consequen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276640"/>
            <a:ext cx="755964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were often not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500280"/>
            <a:ext cx="755964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Or they were not replaced after having been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276640"/>
            <a:ext cx="799308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have to become a commercia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50028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he „happy ones“ become „client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276640"/>
            <a:ext cx="799308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Clients pay (voluntaril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50028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hey use for what they have p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79736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If they are satisfied, the replace the used product.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5:18Z</dcterms:created>
  <dc:creator>GTZ</dc:creator>
  <dc:description/>
  <dc:language>en-US</dc:language>
  <cp:lastModifiedBy>Jan-Hendrik Soehlemann</cp:lastModifiedBy>
  <dcterms:modified xsi:type="dcterms:W3CDTF">2009-01-08T09:03:15Z</dcterms:modified>
  <cp:revision>219</cp:revision>
  <dc:subject/>
  <dc:title>Diapositive 1</dc:title>
</cp:coreProperties>
</file>